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266-12E4-40F3-B62E-2A55702E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C31-F968-4C99-AF99-ABDA24C3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 will be given ahead of time for student expectations and eval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8A8-9C5B-45CC-9298-254C36AB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9BD-5D17-42BA-A535-341DF8DF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B59-F645-4048-BA14-4A308648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085-429A-495F-BEFB-7801285C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5E3-A048-4947-BE4F-70974667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85EE-90C1-4C46-81B5-D9786840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3CFB-3A13-4C0D-A21C-590AD2C9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513-87FF-4A3B-AE36-090B895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FFD-B97B-40ED-955C-379C31A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C26-1D58-42A2-A6B8-376F823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246-86D7-4CB6-9F2E-271EAD8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D5A-D7E1-4700-ADBC-50A348C2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84E6-AC52-484C-9480-D2A83E0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6B3-08F4-462D-A993-7F419EA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76FD-5954-43F9-9FC0-AA71DCB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6ADE-B7F7-48D8-B8A4-34E75689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F35-7FE4-4CE9-A427-125C7087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E3E-92F0-436A-B97A-890A93C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7EE-78BA-47DB-BF64-D458C5FC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4EE-1055-4313-BFE2-2C7FBFE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18C-9B2E-4C98-B8DE-3602959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A2D-0DFB-4018-947A-EB0E418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5BA-F501-4E40-A7E5-0F138D8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9F2-1356-4218-8032-7D1DDE5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784-D89F-4CB1-ACC2-C21F9204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64A-B534-4C01-AAEA-5D2210FC7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nsitioning to Digital Learning Communities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lli A. B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 today’s VISION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si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ldr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roug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clus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i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goro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tiviti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with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chn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ery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entury Learners of To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105160" cy="24004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7"/>
          <p:cNvSpPr/>
          <p:nvPr/>
        </p:nvSpPr>
        <p:spPr>
          <a:xfrm>
            <a:off x="3352680" y="4952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link: 3 steps to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entury Lear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entury Educators of To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886200" cy="2579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3352680" y="4952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link: Mercy, Mercy Me (Ecolog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all ecosystems stay the same all the time? Why or why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autotrophs essential components of an eco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happen if you removed any organism from a food web or chain? Be specif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n ecosystem in a jar or plastic contai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ze a food web of a particular ecosystem (i.e. freshwater, saltwater); draw the flow of energy; label the main components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order heterotroph) of the food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symbiosis FOLDABLE of how organisms, including plants, interact with each other  (i.e. mutualistic relationsh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uccession accordion book on a natural disaster within a given eco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 several jars and vary the amount of water you add to each. One may serve as a desert, pond or other forms of an ecosystem. Identify and describe what the differences in “rainfall” mean to the plant communities that develop in each ja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 with different kind of soils. For example, try 3 different kinds of soils and water each as if it were  “desert” environment. See what differences, if an, emerg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me Digital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an mini-mov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a biome to rese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3 types of ecological relationshi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3 threats to the biome’s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virtual food web of organism within the biome (http://www.ecokids.ca, www.gould.edu.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 video and/or audio clips or podcasts of the bi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9:03Z</dcterms:created>
  <dc:creator>teacher</dc:creator>
  <dc:description/>
  <dc:language>en-US</dc:language>
  <cp:lastModifiedBy>College of Education</cp:lastModifiedBy>
  <dcterms:modified xsi:type="dcterms:W3CDTF">2009-08-08T16:21:46Z</dcterms:modified>
  <cp:revision>9</cp:revision>
  <dc:subject/>
  <dc:title>“Transitioning from Industrial to Digital Learning Communities”</dc:title>
</cp:coreProperties>
</file>